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25DA-3555-4B75-8996-6B6B603D1F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598B-97B2-4C13-B334-72C6BA1A9C8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7C4-09D1-4B7C-B23C-299271FA56B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9251-42FB-4966-A21C-B5C9E6E7743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AB7-7F16-4931-A2DD-D0E21B7BC09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images/willow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7C3-F269-42EB-9994-4FD0ACCBE2F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A9FB-4418-4776-A18F-9390279F89F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F9A8-8E82-4A2C-B752-F492170ED31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C2BE-44F8-4382-8691-81EBA32BE7E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793-A786-45BE-9B94-37624FC4D8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99D4-4860-438E-80DF-9294748322B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ACA-6A71-4CEA-A7D1-A89DA07F2A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393-0959-4E7E-9DBE-614834B24E2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006A-B20F-4DB3-9317-692694FF72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F11-D4C2-4494-B684-680EC32D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858-3C7E-41F8-BA36-F18610E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190-5D3B-4BC1-85CC-2D9F5171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FA2-FA02-4976-A5B5-013B5023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501-5C58-4974-BCEA-5C2090D5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8FE-BC3E-4659-8ABB-4AC28928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B77-04F2-4198-AA12-55251FDA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D44-F3C6-4436-B77E-788045B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A91-C1CE-4823-A88A-B0C74434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793-F3EE-49D7-9750-DEA0DEB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B57-EAC6-4E6B-B5F6-6CA31A52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6ED-E3C2-4B48-AC8D-6F3ED16E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F01-6680-48F4-8C1F-60C50F24B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hyperlink" Target="http://www.youtube.com/watch?v=C1_uez5WX1o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-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hotosynth_summary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reen Leaves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0035023-Tea_leaf,_light_micrograph-SPL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toma1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hloroplastsfigure1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hlorophyll_a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romagnetic-spectrum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000000"/>
                </a:solidFill>
                <a:latin typeface="Arial"/>
              </a:rPr>
              <a:t>Jan Baptist van Helmont (1579-1644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first scientists to study what makes plant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inferred from thes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willow.gif"/>
          <p:cNvPicPr/>
          <p:nvPr/>
        </p:nvPicPr>
        <p:blipFill>
          <a:blip r:embed="rId1"/>
          <a:stretch/>
        </p:blipFill>
        <p:spPr>
          <a:xfrm>
            <a:off x="971640" y="3619440"/>
            <a:ext cx="6696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ook outsid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bsorption-spectrum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ig1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hotosystem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raph2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hotosynthesis_equation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ergy from the Sun to synthesize complex organic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 of photoautotrop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5-10-22T03:10:30Z</dcterms:modified>
  <cp:revision>106</cp:revision>
  <dc:subject/>
  <dc:title>Slide 1</dc:title>
</cp:coreProperties>
</file>